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4A0-C683-4812-B7EC-E7988596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06C-C9C6-41E2-A1AA-1E78B24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277-D495-4C91-8EA3-7EEBA182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24C-BA68-4A13-BFAB-99A3C8A6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0334-015A-40AE-8F31-291AFA5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5F0-A2CC-4F38-9FFA-0EEA7A45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AF6-3458-477F-A580-7BA29F8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4518-9B27-4524-950B-92FBDD4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49E-DBD5-43E4-8375-A1542C2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D5AB-4047-4558-A2B7-3BFE272C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C80E-876C-497D-9FC3-8AE7177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B31-593A-4773-A50E-126CA82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73C-B1DD-4653-B35F-060C1FD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40CC-11B2-49C6-9DF7-1D351A3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ADD8-35D7-4FBB-9B09-F848B70B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594-C144-442B-90D8-9CBAA883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E29-3640-4E1A-A0D4-EFDB505C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042-2F6E-498A-B312-08F35F5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728-25AB-4954-BC95-160A461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864-826F-4B12-BCF8-64AFD93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4A2-D778-4B04-BE48-F8B2BCC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907-5D71-457D-852D-A5E9B02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225-9536-4E30-8BC0-1699E9C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1EE-7CE9-416B-AD6B-F7776AB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551E-D3FD-4195-9A99-528603C7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FA5-71A5-4A96-91CC-4115B183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3640" y="476280"/>
            <a:ext cx="21416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Y tri olaf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tair llythyren ola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2428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360" y="3141720"/>
            <a:ext cx="324000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18064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8-12-31T18:26:34Z</dcterms:modified>
  <cp:revision>1</cp:revision>
  <dc:subject/>
  <dc:title>Y tri olaf</dc:title>
</cp:coreProperties>
</file>